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2574-F1E8-49ED-ADB4-A033A3E2039D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’Argenteuil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2 57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18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% d’employés et d’ouvriers, 11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%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3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 658 € et 32 779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,7% de la population et 3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Zones Urbaines Sensibles et 8 sites prioritaires. Près de 35% des habitants vivent sur les sites prioritaires de la Politique de la Vil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761760"/>
            <a:ext cx="8512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Un ancrage for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7, la création d’un Atelier Santé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9, la signature de la Charte ville active Programme National Nutrition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11, la signature d’un avenant au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ontrat Urbain de Cohésion Socia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xpérimental sur le quartier Cité Joliot Curie – parmi les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13 quartiers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UCS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t la présence de plusieurs centres de santé municipaux très a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diagnostic santé réalisé en 2007 à complé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premier recours et de chirurgiens dentistes très inférieures à celles du département et de la rég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% de l’ensemble des résidences principales relèvent du Parc Privé Potentiellement  Indigne</a:t>
            </a:r>
            <a:r>
              <a:rPr b="1" lang="fr-FR" sz="1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méliorer la connaissance de l’état de santé des Argenteuillais et faire émerger les besoin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à la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: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éserver l’offre de soins sur le territo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9437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un diagnostic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premier diagnostic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en matière de nutrition 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er les médecins des possibilités d’installation sur la commune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ceux de la délégation territoriale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4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52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0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08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3:02Z</dcterms:modified>
  <cp:revision>22</cp:revision>
  <dc:subject/>
  <dc:title>ESSA</dc:title>
</cp:coreProperties>
</file>